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2AA-6D6D-4E84-B08F-3B30437D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08B-12C3-4B6A-A2E3-FB295DC9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AE2-B57E-4107-A562-68EC3985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5D3-9D7D-412B-AFCC-107F73FE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8A6-29A3-4517-9A6F-3362D513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7A7-8021-419B-87E1-B059E427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082-A6CE-4D2D-96AB-435CDDE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7BE-1A20-49E5-9873-9D17C969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7CD-3555-4256-B4FD-E0B78E5B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56D-8E0B-4EB5-A69C-00EAC3B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A6A-CB7C-4C80-9F15-0A08767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7D9-4DDF-4C5C-8AEE-7CB0873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4268-8CDC-496B-BB3F-906D13AAD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282240"/>
            <a:ext cx="88297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versity Bioinformatic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320" y="2419200"/>
            <a:ext cx="730728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ry Casstev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Meeting at N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ham, NC – June 29-30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://www.maizegenetics.net/gdpdm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s://sourceforge.net/projects/gdpdm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Diversity Schema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Connec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C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952720"/>
            <a:ext cx="7307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, 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3360"/>
            <a:ext cx="7772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GDPC Purpo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0240" y="960480"/>
            <a:ext cx="7326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GDPC is to simplify access to the large genomic and phenotypic datasets that are becoming available in plant biolog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2670120"/>
            <a:ext cx="1708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3320" y="2670120"/>
            <a:ext cx="290988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3240" y="2670120"/>
            <a:ext cx="94464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3"/>
            <a:endCxn id="72" idx="1"/>
          </p:cNvCxnSpPr>
          <p:nvPr/>
        </p:nvCxnSpPr>
        <p:spPr>
          <a:xfrm>
            <a:off x="7422840" y="3333240"/>
            <a:ext cx="500760" cy="10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4" name=""/>
          <p:cNvSpPr/>
          <p:nvPr/>
        </p:nvSpPr>
        <p:spPr>
          <a:xfrm>
            <a:off x="2790720" y="2676600"/>
            <a:ext cx="121932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2203200" y="3333600"/>
            <a:ext cx="58788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cxnSp>
        <p:nvCxnSpPr>
          <p:cNvPr id="76" name=""/>
          <p:cNvCxnSpPr>
            <a:stCxn id="74" idx="3"/>
            <a:endCxn id="71" idx="1"/>
          </p:cNvCxnSpPr>
          <p:nvPr/>
        </p:nvCxnSpPr>
        <p:spPr>
          <a:xfrm flipV="1">
            <a:off x="4010040" y="3333240"/>
            <a:ext cx="50400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7" name=""/>
          <p:cNvSpPr/>
          <p:nvPr/>
        </p:nvSpPr>
        <p:spPr>
          <a:xfrm>
            <a:off x="465120" y="249120"/>
            <a:ext cx="8239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ta Flow via GDP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tabas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080" y="809640"/>
            <a:ext cx="86151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ene Diversity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nzea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a Database (Germinate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tec (private GDPD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N (passport dat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2320" y="586728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/gdp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gdpc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70880" y="5624640"/>
            <a:ext cx="1285920" cy="99036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DPC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t Analysis by aSSociation, Evolution, and Linkag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ASSEL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320" y="3281400"/>
            <a:ext cx="73072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, Dallas Kroon, Peter Bradbury, Zhiwu Zhang, and Terry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5760" y="620640"/>
            <a:ext cx="822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Data Mod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DM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2320" y="3435480"/>
            <a:ext cx="73072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allas Kro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ter Bradbur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many other revi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tasse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TASSEL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digree Vie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beta version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3189240"/>
            <a:ext cx="73072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4840" y="514440"/>
            <a:ext cx="8299440" cy="5857920"/>
            <a:chOff x="474840" y="514440"/>
            <a:chExt cx="8299440" cy="5857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74840" y="514440"/>
              <a:ext cx="82994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474840" y="514440"/>
              <a:ext cx="8299440" cy="585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What is GDPD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tabase schema for holding data collected by QTL and Diversity Studi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bjective of GDPDM schem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d the basic data behind QTL and diversity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es on taxa, evaluation environments, trait values, genotyping experiments, and genotypic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es not focus on genomic location, QTLs, detailed passport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no dependencies on QTL sch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57040"/>
            <a:ext cx="27306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2811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DPD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8080" y="263520"/>
            <a:ext cx="519264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02320" y="228600"/>
            <a:ext cx="44416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304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rmpl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as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link-out to germplasm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ate groups of ta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s complex genetic pedi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seed lots and ev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1325520"/>
            <a:ext cx="43880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4657680"/>
            <a:ext cx="9042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ull range of plo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apture background 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s to genomic ma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40" y="220680"/>
            <a:ext cx="307188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s wide range of approaches (SNPs, SSR, sequence alignments, isozy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7360" y="509760"/>
            <a:ext cx="6032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212760"/>
            <a:ext cx="4402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henotype (trai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or qualitative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ontology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of statistics can be recorded (mean, measure, median, std. deviation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2760" y="1025640"/>
            <a:ext cx="45244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94240" y="81000"/>
            <a:ext cx="5484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field design can be recorded (down to the plant if desi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lanting information,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s with local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 can be grouped into experi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1147680"/>
            <a:ext cx="3291120" cy="44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9:32:50Z</dcterms:created>
  <dc:creator>Terry Casstevens</dc:creator>
  <dc:description/>
  <dc:language>en-US</dc:language>
  <cp:lastModifiedBy>Terry</cp:lastModifiedBy>
  <cp:lastPrinted>1998-07-25T07:41:09Z</cp:lastPrinted>
  <dcterms:modified xsi:type="dcterms:W3CDTF">2006-06-29T03:59:38Z</dcterms:modified>
  <cp:revision>647</cp:revision>
  <dc:subject/>
  <dc:title>Task-Sensitive Cinematography Interfaces for Interactive 3D Learning Environments</dc:title>
</cp:coreProperties>
</file>